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jpeg" ContentType="image/jpeg"/>
  <Override PartName="/ppt/media/image53.jpeg" ContentType="image/jpeg"/>
  <Override PartName="/ppt/media/image23.png" ContentType="image/png"/>
  <Override PartName="/ppt/media/image51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0.jpeg" ContentType="image/jpeg"/>
  <Override PartName="/ppt/media/image43.jpeg" ContentType="image/jpeg"/>
  <Override PartName="/ppt/media/image28.png" ContentType="image/png"/>
  <Override PartName="/ppt/media/image35.png" ContentType="image/png"/>
  <Override PartName="/ppt/media/image32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2.jpeg" ContentType="image/jpeg"/>
  <Override PartName="/ppt/media/image22.png" ContentType="image/png"/>
  <Override PartName="/ppt/media/image33.jpeg" ContentType="image/jpeg"/>
  <Override PartName="/ppt/media/image27.png" ContentType="image/png"/>
  <Override PartName="/ppt/media/image3.jpeg" ContentType="image/jpeg"/>
  <Override PartName="/ppt/media/image20.png" ContentType="image/png"/>
  <Override PartName="/ppt/media/image37.jpeg" ContentType="image/jpeg"/>
  <Override PartName="/ppt/media/image60.jpeg" ContentType="image/jpeg"/>
  <Override PartName="/ppt/media/image77.jpeg" ContentType="image/jpeg"/>
  <Override PartName="/ppt/media/image55.jpeg" ContentType="image/jpeg"/>
  <Override PartName="/ppt/media/image4.jpeg" ContentType="image/jpeg"/>
  <Override PartName="/ppt/media/image16.jpeg" ContentType="image/jpeg"/>
  <Override PartName="/ppt/media/image62.png" ContentType="image/png"/>
  <Override PartName="/ppt/media/image63.jpeg" ContentType="image/jpeg"/>
  <Override PartName="/ppt/media/image21.png" ContentType="image/png"/>
  <Override PartName="/ppt/media/image67.jpeg" ContentType="image/jpeg"/>
  <Override PartName="/ppt/media/image64.jpeg" ContentType="image/jpeg"/>
  <Override PartName="/ppt/media/image65.jpeg" ContentType="image/jpeg"/>
  <Override PartName="/ppt/media/image80.png" ContentType="image/png"/>
  <Override PartName="/ppt/media/image26.png" ContentType="image/png"/>
  <Override PartName="/ppt/media/image8.jpeg" ContentType="image/jpeg"/>
  <Override PartName="/ppt/media/image87.png" ContentType="image/png"/>
  <Override PartName="/ppt/media/image5.jpeg" ContentType="image/jpeg"/>
  <Override PartName="/ppt/media/image81.png" ContentType="image/png"/>
  <Override PartName="/ppt/media/image68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61.jpeg" ContentType="image/jpeg"/>
  <Override PartName="/ppt/media/image74.png" ContentType="image/png"/>
  <Override PartName="/ppt/media/image78.jpeg" ContentType="image/jpeg"/>
  <Override PartName="/ppt/media/image66.jpeg" ContentType="image/jpeg"/>
  <Override PartName="/ppt/media/image9.jpeg" ContentType="image/jpeg"/>
  <Override PartName="/ppt/media/image76.png" ContentType="image/png"/>
  <Override PartName="/ppt/media/image85.png" ContentType="image/png"/>
  <Override PartName="/ppt/media/image75.jpeg" ContentType="image/jpeg"/>
  <Override PartName="/ppt/media/image70.jpeg" ContentType="image/jpeg"/>
  <Override PartName="/ppt/media/image72.png" ContentType="image/png"/>
  <Override PartName="/ppt/media/image86.png" ContentType="image/png"/>
  <Override PartName="/ppt/media/image71.png" ContentType="image/png"/>
  <Override PartName="/ppt/media/image69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84.png" ContentType="image/png"/>
  <Override PartName="/ppt/media/image79.jpeg" ContentType="image/jpeg"/>
  <Override PartName="/ppt/media/image7.png" ContentType="image/png"/>
  <Override PartName="/ppt/media/image39.jpeg" ContentType="image/jpeg"/>
  <Override PartName="/ppt/media/image82.png" ContentType="image/png"/>
  <Override PartName="/ppt/media/image36.jpeg" ContentType="image/jpeg"/>
  <Override PartName="/ppt/media/image10.png" ContentType="image/png"/>
  <Override PartName="/ppt/media/image29.jpeg" ContentType="image/jpeg"/>
  <Override PartName="/ppt/media/image12.jpeg" ContentType="image/jpeg"/>
  <Override PartName="/ppt/media/image3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FD002-97AB-4B32-8F52-8AFFD74BC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Klip Video për ndryshimet ndërmjet SSD dhe HDD. Mund të thuhet se cilat prej këtyre diferencave janë të dobishme për Hetuesit e Kriminalistikë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9D33B-B928-43CA-B4D5-275B70B7C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pajisje mbajnë sasi të mëdha të dhënash që mund të jenë me vlerë provu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duken shumë të ngjashme, kapacitetet e ruajtjes së të dhënave mund të ndryshojnë shum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në gjendje të ruajnë të dhëna për nevojën e energjis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ç u tha për Kartat e Memories, ato janë në gjendje të mbajnë të dhëna pa nevojën e energjis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und të mbajnë sasi shumë të mëdha të dhëna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Janë shumë të vogla dhe të lehta për t’u fshehur nga pam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itat janë gjithashtu në gjendje të mbajnë të dhëna pa nevojën e energjisë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mund të mbajnë sasi të mëdha të dhëna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erisa përdoren për rezervë, shpesh është i dobishëm një krahasim me të dhënat aktua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njihni ndonjë Pajisje tjetër Periferike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mbuj të pajisjeve periferike janë: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kanerat, printerat, njësitë me shirit, kamerat Ueb, altoparlantët, mikrofonat, makinat llogaritëse, fakset, sekretaritë telefonike dhe lexuesit e kartave.</a:t>
            </a:r>
            <a:r>
              <a:rPr b="1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më prej këtyre pajisjeve kanë kapacitetin e tyre të mbajtjes së të dhën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 prezenca e një pajisjeje që lexon kartat mund të jetë e nevojshme në një hetim për klonimin e kartave të kredit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ëto mund të kenë madje dhe disqe të ngur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jë vend i mirë për fshehje është një lexues i dytë i z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 mund të përmendni disa funksione që mund të kryejë një Telefon Celular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F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ën Telefon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ërgon 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lidhjes 3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 Internet nëpërmjet rrjetit 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jesht për ruajtje të dhën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loj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 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e të tjera të ndrysh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Q&amp;A : Provat në Kartën SIM që mund të gjen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Lëshuesi i kartës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`talkline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i i Kartës (ICC-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PIN/ P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MSI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</a:rPr>
              <a:t>(Identiteti Ndërkombëtar i Abonentit Celula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Adresarin e Numr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umrat e thirru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MS-t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Pozicionin e fundit të regjistru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e gishtërinj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Gjurmët D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ga Fotot mund të përcatohet se nga cila Kamera u bënë fotografit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tat e Memories mund të mbajnë të gjitha llojet e të Dhënave, jo vetëm Foto dhe 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pacitet më i madh për mbajtjen e të dhënave dhe një Cilësi më e mir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HS – Sistemi Video Home është më i vjetër dhe gjendet rrallë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uesit e Videos Dixhitale mund të përdorin CD, DVD, Disk Blu-ray, dhe madje Disqet e Ngurta të Brend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 i bisedave i nënshtrohet autoritetit ligjor në shumicën e vende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TV janë relativisht të vështira për tu ekzaminuar përderisa shumica prej tyre kanë Sistemin e tyre të Operim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merat IP siç është thënë më parë mund të aksesohen kudo, madje edhe nga Telefonat Celular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Çdo lloj skedari mund të ru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ditët e sotme Pajisjet Portabël për Luajtjen e Skedarëve Audio dhe Video mund të bëjnë shumë më tepë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.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likacio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itimi/shikimi i dokumente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ajisje për Lojrat Video kanë aftësinë për tu lidhur me Internetin dhe për të luajtur video, foto dhe muzikë, si dhe për navigimin në Inter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stemi i tyre i “kyçur” i operimit mund të ndryshohet dhe më pas mund të kemi një kompjuter të zakonshëm të kamufluar si një Pajisje për Loj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zakonisht kanë karta memorie të brendshme ose memorie të brendsh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ugët e udhëzimit, Vendet e Preferuara mund të merren nga Marrësit G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ëndësia e Provave Elektronike duhet të deklarohet këtu dhe se pse ato duhet të trajtohen me korrektës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A kundërshtohen njohuritë e juaja ? Ndoshta në Gjykatë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954C0-EB52-4413-80D9-42DBB750D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 përkufizime kryesore do të shpjegohen më vo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ahasoji këto me Rrjetet Personale (PANs), Rrjetet e Kampuseve të Universiteteve (CANs), ose rrjetet metropolitane (MANs), që zakonisht janë të kufizuara tek një dhomë, ndërtesë, kampus ose zona specifike metropolitane (p.sh., një qytet) respektivish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Numrat e Portave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lejojnë aplikacione të ndryshme në të njëjtin kompjuter të përdorin burimet e rrjetit pa ndërhyrë tek njëri tjetri. Portat janë “virtuale” – JO priza ku fut spinën! Një analogji e ngjashme me portat janë dyert e shtëpis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a më e madhe të jet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gjerësia e valës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aq më e madhe është shpejtësia e lidhjes dhe po kaq më e madhe është përvoja juaj në Internet në shkarkimin e menjëhershëm të të dhënave, dhe përvojën e ngjashme me një Televiz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një rrjet lokal adresat IP </a:t>
            </a:r>
            <a:r>
              <a:rPr b="1" lang="sq-AL" sz="1200" spc="-1" strike="noStrike">
                <a:solidFill>
                  <a:srgbClr val="ff0000"/>
                </a:solidFill>
                <a:latin typeface="Calibri"/>
              </a:rPr>
              <a:t>get resolved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k Adresat MAC në mënyrë që paketat e të dhënave të dinë se në cilin NIC të shkojnë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e Ngurta nga Kompjutera në Rrjet mund të ndahen por kompjuteri duhet të jetë në funksion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 nganjehrë mund të përdoren si servera për shkarkim automatik (p.sh. Programi uTorrent) dhe madje edhe si servera Ue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ërdorimi i RAID - Redundant Array of Independent Disks (RAID) është një konfigurim i hapësirës që krijon mundësinë që disa disqe të lidhen me njëri tjetrin së bashku në një kornizë logjike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ndryshimin ndërmjet një Network Hub dhe një Network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ryshimi kryesor me një Network Switch është se një Network Hub transmeton të gjitha paketat tek të gjitha portat ndërsa një Network Switch i dërgon ato vetëm tek një portë e caktu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s përdoren zakonisht në kushtet e shtëpisë për të lidhur një shtëpi me një kompani që ofron shërbimin e Internetit. Kutitë shpesh përdoren për shumë qëllime të tilla si switch, pikë aksesi, firewall, router dhe gateway të gjitha së bashku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gjithëse ndodhet në hyrjen e një rrjeti, jo domosdoshmërisht duhet të jetë hyrja e rrjetit për në Internet. Termi ‘layer 3 switch’ shpesh përdoret në mënyrë të shkëmbyeshme me pajisjen router, por një pajisje switch është në fakt një term i përgjithshëm pa një përkufizim teknik rigoroz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 programin e duhur, çdo kompjuter i lidhur me rrjetin mund të konfigurohet si një server. Në shumicën e rasteve është një kompjuter i dedikuar i fuqishëm, i caktuar të jetë “gjithnjë i disponueshëm”.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ë një biznes shpesh ka kuptim që të kryhen shërbime të ndryshme në makina të ndryshme për arsye të sigurisë dhe për të minimizuar impaktin e ndonjë mosfunksioni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Testi i njohurive është dokumenti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torage media Exercise.doc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Zgjidhjet për testin e njohurive janë në dokumentin me titu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olutions for exercise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34535-0C09-4BCF-80EE-7FDEE9BB4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lokon trafikun që përpiqet të hyjë në rrjet nëpërmjet të gjitha portave përveç atyre që janë konfiguruar të lejojnë trafikun në hyrje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jistrimet e Firewall-it mund të jenë shumë të dobishme për një het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terat modernë shpesh përshijnë dhe funksionimin e Pikave të Akses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 i një kompjuteri ose madje edhe i një telefoni celular mund të konfigurohet si një Pikë Akse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A5376-BD0D-463B-918A-A077F0ED43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pjegoni se çfarë konsiderohet pjesë fizike e kompjuterit dhe çfarë konsiderohet pjesë kompjuter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ni se në ditët e sotme shumica e komponentëve janë përmbledhur në një. (kompjutera laptop, kompjutera tabl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Kompjuterët Mainframe – Serverët: Diskutoni për Proporcionalitetin – Sa shumë është mjaf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rni në konsideratë vështirësitë që mund të dalin kur bëhen kontrolle në bizne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hpjegoni dhe diskutoni vështirësitë që dalin gjatë ekzaminimit të Pajisjeve Table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Q&amp;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Cila është diferenca ndërmjet një disku të ngurtë tradicional dhe një disku SS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Megjithëse disqet e ngurtë ruajnë të dhëna në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pllaka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qet SSD 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ruajnë të dhëna duke përdorur </a:t>
            </a:r>
            <a:r>
              <a:rPr b="1" lang="sq-AL" sz="1200" spc="-1" strike="noStrike">
                <a:solidFill>
                  <a:srgbClr val="000000"/>
                </a:solidFill>
                <a:latin typeface="Calibri"/>
              </a:rPr>
              <a:t>mikroçipet</a:t>
            </a: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 që nuk kanë pjesë të lëvizsh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Si të tillë ata ka më pak të ngjarë të dëmtohen nga goditja dhe ofrojnë akses më të shpejtë tek të dhën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1200" spc="-1" strike="noStrike">
                <a:solidFill>
                  <a:srgbClr val="000000"/>
                </a:solidFill>
                <a:latin typeface="Calibri"/>
              </a:rPr>
              <a:t>Në këtë pikë duhet të thuhet se këto pajisje mund të mbajnë prova të vlefsh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1A0-0DBD-45E6-8A49-3A594D63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D15-443B-4F42-BBEC-1BADA604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2C8-76F5-4A03-9918-D3ABAE34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485-6BE9-4B4D-9A8E-91E9EB48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22F-CD50-46EE-801D-CE75FF97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582-7523-4F91-917F-7AB4DE21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821-2BA0-4A25-8178-6EFA42F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A53-78C4-4BBB-B761-6002409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7E7-9962-4B22-A97D-8C10980A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5E5-E284-42C3-92EA-F8E1223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E65-2ABE-4841-B420-8A2AEE0A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CCA-4F99-4D7B-8DA1-4F11777B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06E3D-94C8-46FC-B905-4EAD23759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E8885-96B5-4F15-9601-4DB49107C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jpeg"/><Relationship Id="rId8" Type="http://schemas.openxmlformats.org/officeDocument/2006/relationships/image" Target="../media/image6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4A04E-0399-4BEE-8908-FABAE3C40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400" spc="-1" strike="noStrike">
                <a:solidFill>
                  <a:srgbClr val="000000"/>
                </a:solidFill>
                <a:latin typeface="Calibri"/>
              </a:rPr>
              <a:t>Trajnim për Grupet Hetimore të Autoriteteve të Zbatimit të Ligj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1.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imet e Prov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D77E1-6465-4B4B-B66B-264361B9B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amsung SSD vs HDD.mp4" descr=""/>
          <p:cNvPicPr/>
          <p:nvPr/>
        </p:nvPicPr>
        <p:blipFill>
          <a:blip r:embed="rId1"/>
          <a:stretch/>
        </p:blipFill>
        <p:spPr>
          <a:xfrm>
            <a:off x="1036800" y="1150920"/>
            <a:ext cx="7360920" cy="551988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SSD VS H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D09ED-4DEE-43BB-88BC-3A6C9BEB6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e Heqsh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mpakt Disk (C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për Video Dixhitale (DV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 Blu-ray (B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1"/>
          <p:cNvGrpSpPr/>
          <p:nvPr/>
        </p:nvGrpSpPr>
        <p:grpSpPr>
          <a:xfrm>
            <a:off x="901800" y="3571920"/>
            <a:ext cx="6899040" cy="2095560"/>
            <a:chOff x="901800" y="3571920"/>
            <a:chExt cx="6899040" cy="2095560"/>
          </a:xfrm>
        </p:grpSpPr>
        <p:pic>
          <p:nvPicPr>
            <p:cNvPr id="148" name="Picture 21" descr="cd.jpg"/>
            <p:cNvPicPr/>
            <p:nvPr/>
          </p:nvPicPr>
          <p:blipFill>
            <a:blip r:embed="rId1"/>
            <a:stretch/>
          </p:blipFill>
          <p:spPr>
            <a:xfrm>
              <a:off x="901800" y="3702960"/>
              <a:ext cx="1927440" cy="14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2" descr="bluray.jpg"/>
            <p:cNvPicPr/>
            <p:nvPr/>
          </p:nvPicPr>
          <p:blipFill>
            <a:blip r:embed="rId2"/>
            <a:stretch/>
          </p:blipFill>
          <p:spPr>
            <a:xfrm>
              <a:off x="5556600" y="3571920"/>
              <a:ext cx="2244240" cy="162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3" descr="dvd.jpg"/>
            <p:cNvPicPr/>
            <p:nvPr/>
          </p:nvPicPr>
          <p:blipFill>
            <a:blip r:embed="rId3"/>
            <a:stretch/>
          </p:blipFill>
          <p:spPr>
            <a:xfrm>
              <a:off x="3183480" y="3702960"/>
              <a:ext cx="2062800" cy="149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1167480" y="5137200"/>
              <a:ext cx="14569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ompakt Disk (C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5"/>
            <p:cNvSpPr/>
            <p:nvPr/>
          </p:nvSpPr>
          <p:spPr>
            <a:xfrm>
              <a:off x="3444480" y="5140440"/>
              <a:ext cx="17852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për Video Dixhitale (DV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6"/>
            <p:cNvSpPr/>
            <p:nvPr/>
          </p:nvSpPr>
          <p:spPr>
            <a:xfrm>
              <a:off x="6043680" y="5140080"/>
              <a:ext cx="1454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isk Blu-ray (B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BC58C2-989E-4CDC-B099-907461BB5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rtat e Mem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tat e Memories, të njohura gjithashtu dhe si karta flash janë pajisje për ruajtjen e të dhënave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30"/>
          <p:cNvGrpSpPr/>
          <p:nvPr/>
        </p:nvGrpSpPr>
        <p:grpSpPr>
          <a:xfrm>
            <a:off x="457200" y="3068640"/>
            <a:ext cx="7736040" cy="2854440"/>
            <a:chOff x="457200" y="3068640"/>
            <a:chExt cx="7736040" cy="2854440"/>
          </a:xfrm>
        </p:grpSpPr>
        <p:pic>
          <p:nvPicPr>
            <p:cNvPr id="158" name="Picture 28" descr="compact flash.jpg"/>
            <p:cNvPicPr/>
            <p:nvPr/>
          </p:nvPicPr>
          <p:blipFill>
            <a:blip r:embed="rId1"/>
            <a:stretch/>
          </p:blipFill>
          <p:spPr>
            <a:xfrm>
              <a:off x="5613840" y="3152880"/>
              <a:ext cx="2579400" cy="20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9" descr="128gb memory card1.jpg"/>
            <p:cNvPicPr/>
            <p:nvPr/>
          </p:nvPicPr>
          <p:blipFill>
            <a:blip r:embed="rId2"/>
            <a:stretch/>
          </p:blipFill>
          <p:spPr>
            <a:xfrm>
              <a:off x="457200" y="3068640"/>
              <a:ext cx="3467160" cy="215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0" descr="micro memory card.jpg"/>
            <p:cNvPicPr/>
            <p:nvPr/>
          </p:nvPicPr>
          <p:blipFill>
            <a:blip r:embed="rId3"/>
            <a:stretch/>
          </p:blipFill>
          <p:spPr>
            <a:xfrm>
              <a:off x="3362400" y="3068640"/>
              <a:ext cx="2070360" cy="22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31"/>
            <p:cNvSpPr/>
            <p:nvPr/>
          </p:nvSpPr>
          <p:spPr>
            <a:xfrm>
              <a:off x="1082160" y="5072760"/>
              <a:ext cx="2088720" cy="79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Secure Digital (S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2"/>
            <p:cNvSpPr/>
            <p:nvPr/>
          </p:nvSpPr>
          <p:spPr>
            <a:xfrm>
              <a:off x="3827880" y="5060880"/>
              <a:ext cx="14317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Micro SD dhe përshtatë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3"/>
            <p:cNvSpPr/>
            <p:nvPr/>
          </p:nvSpPr>
          <p:spPr>
            <a:xfrm>
              <a:off x="6449400" y="5051520"/>
              <a:ext cx="12772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rta Compact Flash</a:t>
              </a: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 (CF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AA26A-6A4D-49B5-B760-018E9412A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standard që përcakton protokollet për komunikimin, lidhjen dhe furnizimin me energji për pajisje që duhet të lid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Grafik 112" descr=""/>
          <p:cNvPicPr/>
          <p:nvPr/>
        </p:nvPicPr>
        <p:blipFill>
          <a:blip r:embed="rId1"/>
          <a:stretch/>
        </p:blipFill>
        <p:spPr>
          <a:xfrm>
            <a:off x="457200" y="3513240"/>
            <a:ext cx="7711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9ADCF-8B53-44D3-B454-FE3F19431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912960" y="2220840"/>
            <a:ext cx="3052440" cy="38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168800" y="2077920"/>
            <a:ext cx="2709720" cy="203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4176720" y="4110120"/>
            <a:ext cx="270180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D3AC8-91BB-40C3-A2E7-437A419CB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USB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 të gjitha pajisjet janë ashtu siç duken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Description: odd usb.png"/>
          <p:cNvPicPr/>
          <p:nvPr/>
        </p:nvPicPr>
        <p:blipFill>
          <a:blip r:embed="rId1"/>
          <a:stretch/>
        </p:blipFill>
        <p:spPr>
          <a:xfrm>
            <a:off x="638280" y="2201760"/>
            <a:ext cx="7748640" cy="1960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6953400" y="4292640"/>
            <a:ext cx="1904760" cy="200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5048280" y="5533920"/>
            <a:ext cx="1905120" cy="924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1976400" y="4292640"/>
            <a:ext cx="460044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5"/>
          <a:stretch/>
        </p:blipFill>
        <p:spPr>
          <a:xfrm>
            <a:off x="638280" y="4014720"/>
            <a:ext cx="1771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371C0-AAFE-4586-86CB-33B192101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Disqet me Shirit për Mbajtjen e të Dhën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e ruajtura në shirit ka më shumë të ngjarë të hasen në një biz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ritat zakonisht përdoren për rezerv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457200" y="3476520"/>
            <a:ext cx="7832880" cy="2355840"/>
            <a:chOff x="457200" y="3476520"/>
            <a:chExt cx="7832880" cy="2355840"/>
          </a:xfrm>
        </p:grpSpPr>
        <p:pic>
          <p:nvPicPr>
            <p:cNvPr id="186" name="Picture 35" descr="ultrium 5 tape.jpg"/>
            <p:cNvPicPr/>
            <p:nvPr/>
          </p:nvPicPr>
          <p:blipFill>
            <a:blip r:embed="rId1"/>
            <a:stretch/>
          </p:blipFill>
          <p:spPr>
            <a:xfrm>
              <a:off x="457200" y="3649320"/>
              <a:ext cx="1741680" cy="193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6" descr="lto 5 tape cassette.jpg"/>
            <p:cNvPicPr/>
            <p:nvPr/>
          </p:nvPicPr>
          <p:blipFill>
            <a:blip r:embed="rId2"/>
            <a:stretch/>
          </p:blipFill>
          <p:spPr>
            <a:xfrm>
              <a:off x="3280320" y="3476520"/>
              <a:ext cx="2462400" cy="19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37" descr="lto tape drive.jpg"/>
            <p:cNvPicPr/>
            <p:nvPr/>
          </p:nvPicPr>
          <p:blipFill>
            <a:blip r:embed="rId3"/>
            <a:stretch/>
          </p:blipFill>
          <p:spPr>
            <a:xfrm>
              <a:off x="6040440" y="3476520"/>
              <a:ext cx="224964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38"/>
            <p:cNvSpPr/>
            <p:nvPr/>
          </p:nvSpPr>
          <p:spPr>
            <a:xfrm>
              <a:off x="1825920" y="5440680"/>
              <a:ext cx="308196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inear Tape-Open (LTO) Storage Tap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6676560" y="5426280"/>
              <a:ext cx="1349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TO Tape Dr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69483-7529-46EB-9323-8F7201B88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erif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feriket janë pajisje që nuk janë pjesë përbërëse e kompjuterit por lidhen me të për të përmirësuar kapacitetet e ti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1079640" y="3233880"/>
            <a:ext cx="2073240" cy="2641320"/>
            <a:chOff x="1079640" y="3233880"/>
            <a:chExt cx="2073240" cy="2641320"/>
          </a:xfrm>
        </p:grpSpPr>
        <p:pic>
          <p:nvPicPr>
            <p:cNvPr id="195" name="Picture 47" descr="scl5"/>
            <p:cNvPicPr/>
            <p:nvPr/>
          </p:nvPicPr>
          <p:blipFill>
            <a:blip r:embed="rId1"/>
            <a:stretch/>
          </p:blipFill>
          <p:spPr>
            <a:xfrm>
              <a:off x="1079640" y="3233880"/>
              <a:ext cx="2073240" cy="22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Rectangle 48"/>
            <p:cNvSpPr/>
            <p:nvPr/>
          </p:nvSpPr>
          <p:spPr>
            <a:xfrm>
              <a:off x="1238400" y="5551200"/>
              <a:ext cx="16772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kinë Fak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3530520" y="3233880"/>
            <a:ext cx="2324160" cy="2641320"/>
            <a:chOff x="3530520" y="3233880"/>
            <a:chExt cx="2324160" cy="2641320"/>
          </a:xfrm>
        </p:grpSpPr>
        <p:pic>
          <p:nvPicPr>
            <p:cNvPr id="198" name="Picture 50" descr="scl10"/>
            <p:cNvPicPr/>
            <p:nvPr/>
          </p:nvPicPr>
          <p:blipFill>
            <a:blip r:embed="rId2"/>
            <a:stretch/>
          </p:blipFill>
          <p:spPr>
            <a:xfrm>
              <a:off x="3530520" y="3233880"/>
              <a:ext cx="2324160" cy="235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51"/>
            <p:cNvSpPr/>
            <p:nvPr/>
          </p:nvSpPr>
          <p:spPr>
            <a:xfrm>
              <a:off x="4245120" y="5562000"/>
              <a:ext cx="1220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a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5854680" y="3068640"/>
            <a:ext cx="2506680" cy="2633760"/>
            <a:chOff x="5854680" y="3068640"/>
            <a:chExt cx="2506680" cy="2633760"/>
          </a:xfrm>
        </p:grpSpPr>
        <p:pic>
          <p:nvPicPr>
            <p:cNvPr id="201" name="Picture 55" descr="scl8"/>
            <p:cNvPicPr/>
            <p:nvPr/>
          </p:nvPicPr>
          <p:blipFill>
            <a:blip r:embed="rId3"/>
            <a:stretch/>
          </p:blipFill>
          <p:spPr>
            <a:xfrm>
              <a:off x="5854680" y="3068640"/>
              <a:ext cx="2506680" cy="24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6"/>
            <p:cNvSpPr/>
            <p:nvPr/>
          </p:nvSpPr>
          <p:spPr>
            <a:xfrm>
              <a:off x="6728040" y="5406480"/>
              <a:ext cx="7070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9A242-751C-4D8B-9096-B2A0F4B09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kinat e Fotokopj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39840" y="1600200"/>
            <a:ext cx="474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jë Makinë Fotokopje është një makinë që bën kopje të dokumenteve dhe imazheve të tjera vizuale me shpejtësi dhe lir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endet në bizn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orje e brendshme ose e heqsh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64960" y="1270080"/>
            <a:ext cx="36752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CF330-2894-4656-801F-04B563861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elefonat Celularë përdoren për shumë detyra dhe mund të mbajnë sasi të mëdha që shpesh janë të rëndësishme.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95"/>
          <p:cNvGrpSpPr/>
          <p:nvPr/>
        </p:nvGrpSpPr>
        <p:grpSpPr>
          <a:xfrm>
            <a:off x="1346040" y="3068640"/>
            <a:ext cx="6537600" cy="2956680"/>
            <a:chOff x="1346040" y="3068640"/>
            <a:chExt cx="6537600" cy="2956680"/>
          </a:xfrm>
        </p:grpSpPr>
        <p:grpSp>
          <p:nvGrpSpPr>
            <p:cNvPr id="211" name="Group 96"/>
            <p:cNvGrpSpPr/>
            <p:nvPr/>
          </p:nvGrpSpPr>
          <p:grpSpPr>
            <a:xfrm>
              <a:off x="1346040" y="3068640"/>
              <a:ext cx="6537600" cy="2903400"/>
              <a:chOff x="1346040" y="3068640"/>
              <a:chExt cx="6537600" cy="2903400"/>
            </a:xfrm>
          </p:grpSpPr>
          <p:pic>
            <p:nvPicPr>
              <p:cNvPr id="212" name="Picture 13" descr="iphone 4.jpg"/>
              <p:cNvPicPr/>
              <p:nvPr/>
            </p:nvPicPr>
            <p:blipFill>
              <a:blip r:embed="rId1"/>
              <a:stretch/>
            </p:blipFill>
            <p:spPr>
              <a:xfrm>
                <a:off x="2508480" y="3068640"/>
                <a:ext cx="3980160" cy="29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Picture 14" descr="samsung galaxy.jpg"/>
              <p:cNvPicPr/>
              <p:nvPr/>
            </p:nvPicPr>
            <p:blipFill>
              <a:blip r:embed="rId2"/>
              <a:stretch/>
            </p:blipFill>
            <p:spPr>
              <a:xfrm>
                <a:off x="1346040" y="3337560"/>
                <a:ext cx="1261800" cy="230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5" descr="blackberrystorm.gif"/>
              <p:cNvPicPr/>
              <p:nvPr/>
            </p:nvPicPr>
            <p:blipFill>
              <a:blip r:embed="rId3"/>
              <a:stretch/>
            </p:blipFill>
            <p:spPr>
              <a:xfrm>
                <a:off x="6177600" y="3282840"/>
                <a:ext cx="1706040" cy="249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Rectangle 16"/>
            <p:cNvSpPr/>
            <p:nvPr/>
          </p:nvSpPr>
          <p:spPr>
            <a:xfrm>
              <a:off x="3824280" y="5887800"/>
              <a:ext cx="112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elefona Celularë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1F978-B51E-4311-AFFF-440660B79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14126-2850-40E8-AD01-028AFB6B2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elefonat Celular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rta Sim: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Moduli i Identitetit të Abonentit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SIM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është një qark i integruar që mban në mënyrë të sigurtë identitetin ndërkombëtar të abonentit celular 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(IMSI)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he çelësin e përdorur për të identifikuar dhe vërtetuar abonentët në pajisjet e telefonisë së lëvizsh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1" descr="C:\Users\Lemon\Desktop\BackUp\COE Training\Photos\sim.jpg"/>
          <p:cNvPicPr/>
          <p:nvPr/>
        </p:nvPicPr>
        <p:blipFill>
          <a:blip r:embed="rId1"/>
          <a:stretch/>
        </p:blipFill>
        <p:spPr>
          <a:xfrm>
            <a:off x="5165640" y="4086360"/>
            <a:ext cx="277488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68065-8827-43D3-92A2-25C429DD1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4000" spc="-1" strike="noStrike">
                <a:solidFill>
                  <a:srgbClr val="000000"/>
                </a:solidFill>
                <a:latin typeface="Calibri"/>
              </a:rPr>
              <a:t>Regjistrimi me Foto dhe Vid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3" name="Group 10"/>
          <p:cNvGrpSpPr/>
          <p:nvPr/>
        </p:nvGrpSpPr>
        <p:grpSpPr>
          <a:xfrm>
            <a:off x="789120" y="2881440"/>
            <a:ext cx="7591320" cy="3403440"/>
            <a:chOff x="789120" y="2881440"/>
            <a:chExt cx="7591320" cy="3403440"/>
          </a:xfrm>
        </p:grpSpPr>
        <p:pic>
          <p:nvPicPr>
            <p:cNvPr id="224" name="Picture 77" descr="watch spy camera.jpg"/>
            <p:cNvPicPr/>
            <p:nvPr/>
          </p:nvPicPr>
          <p:blipFill>
            <a:blip r:embed="rId1"/>
            <a:stretch/>
          </p:blipFill>
          <p:spPr>
            <a:xfrm>
              <a:off x="6741720" y="2881440"/>
              <a:ext cx="163872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78" descr="spy clock camera.jpg"/>
            <p:cNvPicPr/>
            <p:nvPr/>
          </p:nvPicPr>
          <p:blipFill>
            <a:blip r:embed="rId2"/>
            <a:stretch/>
          </p:blipFill>
          <p:spPr>
            <a:xfrm>
              <a:off x="2637720" y="2881440"/>
              <a:ext cx="2188080" cy="296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79" descr="spy camera.jpg"/>
            <p:cNvPicPr/>
            <p:nvPr/>
          </p:nvPicPr>
          <p:blipFill>
            <a:blip r:embed="rId3"/>
            <a:stretch/>
          </p:blipFill>
          <p:spPr>
            <a:xfrm>
              <a:off x="789120" y="3068640"/>
              <a:ext cx="1947600" cy="27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80" descr="pen spy camera.jpg"/>
            <p:cNvPicPr/>
            <p:nvPr/>
          </p:nvPicPr>
          <p:blipFill>
            <a:blip r:embed="rId4"/>
            <a:stretch/>
          </p:blipFill>
          <p:spPr>
            <a:xfrm>
              <a:off x="5079240" y="2881440"/>
              <a:ext cx="150840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Rectangle 81"/>
            <p:cNvSpPr/>
            <p:nvPr/>
          </p:nvSpPr>
          <p:spPr>
            <a:xfrm>
              <a:off x="3511800" y="5778000"/>
              <a:ext cx="2219400" cy="5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 Dixhitale “Spiune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7AED4-A939-4A88-B795-55A38F0A8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Video Dixhit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video dixhitale mund të mbajnë foto dhe video ose në memorien e brendshme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se në kartat e mem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është e rëndësishme të bëhet dalli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oup 10"/>
          <p:cNvGrpSpPr/>
          <p:nvPr/>
        </p:nvGrpSpPr>
        <p:grpSpPr>
          <a:xfrm>
            <a:off x="579600" y="3532320"/>
            <a:ext cx="8107200" cy="2617560"/>
            <a:chOff x="579600" y="3532320"/>
            <a:chExt cx="8107200" cy="2617560"/>
          </a:xfrm>
        </p:grpSpPr>
        <p:pic>
          <p:nvPicPr>
            <p:cNvPr id="233" name="Picture 83" descr="video camera2.jpg"/>
            <p:cNvPicPr/>
            <p:nvPr/>
          </p:nvPicPr>
          <p:blipFill>
            <a:blip r:embed="rId1"/>
            <a:stretch/>
          </p:blipFill>
          <p:spPr>
            <a:xfrm>
              <a:off x="579600" y="3532320"/>
              <a:ext cx="2274480" cy="25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84" descr="video camera.jpg"/>
            <p:cNvPicPr/>
            <p:nvPr/>
          </p:nvPicPr>
          <p:blipFill>
            <a:blip r:embed="rId2"/>
            <a:stretch/>
          </p:blipFill>
          <p:spPr>
            <a:xfrm>
              <a:off x="5893560" y="3890160"/>
              <a:ext cx="2793240" cy="19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5" descr="video camera4.jpg"/>
            <p:cNvPicPr/>
            <p:nvPr/>
          </p:nvPicPr>
          <p:blipFill>
            <a:blip r:embed="rId3"/>
            <a:stretch/>
          </p:blipFill>
          <p:spPr>
            <a:xfrm>
              <a:off x="3187440" y="3610440"/>
              <a:ext cx="2132280" cy="235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86"/>
            <p:cNvSpPr/>
            <p:nvPr/>
          </p:nvSpPr>
          <p:spPr>
            <a:xfrm>
              <a:off x="3252240" y="5826600"/>
              <a:ext cx="226584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Video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32C8D-ACF5-4F68-9C6E-39CD222A6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V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sq-AL" sz="3200" spc="-1" strike="noStrike">
                <a:solidFill>
                  <a:srgbClr val="000000"/>
                </a:solidFill>
                <a:latin typeface="Calibri"/>
              </a:rPr>
              <a:t>Regjistruesit e Videos Dixh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9"/>
          <p:cNvGrpSpPr/>
          <p:nvPr/>
        </p:nvGrpSpPr>
        <p:grpSpPr>
          <a:xfrm>
            <a:off x="863640" y="3560760"/>
            <a:ext cx="7221600" cy="2743200"/>
            <a:chOff x="863640" y="3560760"/>
            <a:chExt cx="7221600" cy="2743200"/>
          </a:xfrm>
        </p:grpSpPr>
        <p:pic>
          <p:nvPicPr>
            <p:cNvPr id="241" name="Picture 94" descr="vhs.jpg"/>
            <p:cNvPicPr/>
            <p:nvPr/>
          </p:nvPicPr>
          <p:blipFill>
            <a:blip r:embed="rId1"/>
            <a:stretch/>
          </p:blipFill>
          <p:spPr>
            <a:xfrm>
              <a:off x="863640" y="3560760"/>
              <a:ext cx="3395520" cy="22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95" descr="digtial video recorder.jpg"/>
            <p:cNvPicPr/>
            <p:nvPr/>
          </p:nvPicPr>
          <p:blipFill>
            <a:blip r:embed="rId2"/>
            <a:stretch/>
          </p:blipFill>
          <p:spPr>
            <a:xfrm>
              <a:off x="4329000" y="3696480"/>
              <a:ext cx="375624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96"/>
            <p:cNvSpPr/>
            <p:nvPr/>
          </p:nvSpPr>
          <p:spPr>
            <a:xfrm>
              <a:off x="2002680" y="5938200"/>
              <a:ext cx="1616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setë Video V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7"/>
            <p:cNvSpPr/>
            <p:nvPr/>
          </p:nvSpPr>
          <p:spPr>
            <a:xfrm>
              <a:off x="5158800" y="5942160"/>
              <a:ext cx="21438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 i Videos Dixhita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D7DF7-393A-4B8D-9D25-07FD7A215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egjistruesit Dixhital të Aud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ëgjimi i regjistrimeve të zë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i i prezantimeve ose bised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edhja në kapacitetin e Kompjut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457200" y="3762360"/>
            <a:ext cx="8229600" cy="2625840"/>
            <a:chOff x="457200" y="3762360"/>
            <a:chExt cx="8229600" cy="2625840"/>
          </a:xfrm>
        </p:grpSpPr>
        <p:pic>
          <p:nvPicPr>
            <p:cNvPr id="249" name="Picture 88" descr="audio recorder 3.jpg"/>
            <p:cNvPicPr/>
            <p:nvPr/>
          </p:nvPicPr>
          <p:blipFill>
            <a:blip r:embed="rId1"/>
            <a:srcRect l="1551" t="2627" r="1551" b="2627"/>
            <a:stretch/>
          </p:blipFill>
          <p:spPr>
            <a:xfrm>
              <a:off x="457200" y="4036680"/>
              <a:ext cx="2883600" cy="20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89" descr="audio recorder 1.jpg"/>
            <p:cNvPicPr/>
            <p:nvPr/>
          </p:nvPicPr>
          <p:blipFill>
            <a:blip r:embed="rId2"/>
            <a:stretch/>
          </p:blipFill>
          <p:spPr>
            <a:xfrm>
              <a:off x="3094560" y="3879000"/>
              <a:ext cx="2580120" cy="21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0" descr="audio recorder.jpg"/>
            <p:cNvPicPr/>
            <p:nvPr/>
          </p:nvPicPr>
          <p:blipFill>
            <a:blip r:embed="rId3"/>
            <a:stretch/>
          </p:blipFill>
          <p:spPr>
            <a:xfrm>
              <a:off x="5125320" y="3762360"/>
              <a:ext cx="3561480" cy="23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91"/>
            <p:cNvSpPr/>
            <p:nvPr/>
          </p:nvSpPr>
          <p:spPr>
            <a:xfrm>
              <a:off x="1918080" y="6008400"/>
              <a:ext cx="16110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2"/>
            <p:cNvSpPr/>
            <p:nvPr/>
          </p:nvSpPr>
          <p:spPr>
            <a:xfrm>
              <a:off x="3477240" y="6047640"/>
              <a:ext cx="2562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Rregjistruesit Dixhital të Audi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A87EB-02F0-4E50-8A96-463D0894B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Kamerat CC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sigurin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si prova në shumicën e çësht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ojnë për pajisje me të dhëna ose monitorim dir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Kamerat 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10"/>
          <p:cNvGrpSpPr/>
          <p:nvPr/>
        </p:nvGrpSpPr>
        <p:grpSpPr>
          <a:xfrm>
            <a:off x="457200" y="4062240"/>
            <a:ext cx="7808760" cy="1941840"/>
            <a:chOff x="457200" y="4062240"/>
            <a:chExt cx="7808760" cy="1941840"/>
          </a:xfrm>
        </p:grpSpPr>
        <p:pic>
          <p:nvPicPr>
            <p:cNvPr id="258" name="Picture 99" descr="cctv 3.jpg"/>
            <p:cNvPicPr/>
            <p:nvPr/>
          </p:nvPicPr>
          <p:blipFill>
            <a:blip r:embed="rId1"/>
            <a:stretch/>
          </p:blipFill>
          <p:spPr>
            <a:xfrm>
              <a:off x="2494080" y="4062240"/>
              <a:ext cx="1473120" cy="156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00" descr="cctv2.jpg"/>
            <p:cNvPicPr/>
            <p:nvPr/>
          </p:nvPicPr>
          <p:blipFill>
            <a:blip r:embed="rId2"/>
            <a:stretch/>
          </p:blipFill>
          <p:spPr>
            <a:xfrm>
              <a:off x="457200" y="4105080"/>
              <a:ext cx="1788840" cy="15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01" descr="cctv1.jpg"/>
            <p:cNvPicPr/>
            <p:nvPr/>
          </p:nvPicPr>
          <p:blipFill>
            <a:blip r:embed="rId3"/>
            <a:stretch/>
          </p:blipFill>
          <p:spPr>
            <a:xfrm>
              <a:off x="4142520" y="4165200"/>
              <a:ext cx="161532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02" descr="cctv5.jpg"/>
            <p:cNvPicPr/>
            <p:nvPr/>
          </p:nvPicPr>
          <p:blipFill>
            <a:blip r:embed="rId4"/>
            <a:stretch/>
          </p:blipFill>
          <p:spPr>
            <a:xfrm>
              <a:off x="5811840" y="4105080"/>
              <a:ext cx="245412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103"/>
            <p:cNvSpPr/>
            <p:nvPr/>
          </p:nvSpPr>
          <p:spPr>
            <a:xfrm>
              <a:off x="2417400" y="5704920"/>
              <a:ext cx="36309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Kamerat e Televizionit me Qark të Shkurtër (CCTV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90112-D5D8-4ACA-BDF6-84404347D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ortabë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ruajtjen dhe luajtjen e skedarëve audio, video dhe imazh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Zakonisht janë me memorie të brendshme flash ose edhe me disk të ngur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10"/>
          <p:cNvGrpSpPr/>
          <p:nvPr/>
        </p:nvGrpSpPr>
        <p:grpSpPr>
          <a:xfrm>
            <a:off x="457200" y="3713040"/>
            <a:ext cx="7856640" cy="2538360"/>
            <a:chOff x="457200" y="3713040"/>
            <a:chExt cx="7856640" cy="2538360"/>
          </a:xfrm>
        </p:grpSpPr>
        <p:pic>
          <p:nvPicPr>
            <p:cNvPr id="267" name="Picture 105" descr="mp3 2.jpg"/>
            <p:cNvPicPr/>
            <p:nvPr/>
          </p:nvPicPr>
          <p:blipFill>
            <a:blip r:embed="rId1"/>
            <a:stretch/>
          </p:blipFill>
          <p:spPr>
            <a:xfrm>
              <a:off x="6713640" y="3945240"/>
              <a:ext cx="160020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6" descr="ipod.jpg"/>
            <p:cNvPicPr/>
            <p:nvPr/>
          </p:nvPicPr>
          <p:blipFill>
            <a:blip r:embed="rId2"/>
            <a:stretch/>
          </p:blipFill>
          <p:spPr>
            <a:xfrm>
              <a:off x="457200" y="3816000"/>
              <a:ext cx="1848600" cy="207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07" descr="mp3.jpg"/>
            <p:cNvPicPr/>
            <p:nvPr/>
          </p:nvPicPr>
          <p:blipFill>
            <a:blip r:embed="rId3"/>
            <a:stretch/>
          </p:blipFill>
          <p:spPr>
            <a:xfrm>
              <a:off x="3444840" y="3713040"/>
              <a:ext cx="2267640" cy="21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08" descr="mp3 3.jpg"/>
            <p:cNvPicPr/>
            <p:nvPr/>
          </p:nvPicPr>
          <p:blipFill>
            <a:blip r:embed="rId4"/>
            <a:stretch/>
          </p:blipFill>
          <p:spPr>
            <a:xfrm>
              <a:off x="2077200" y="4221360"/>
              <a:ext cx="1849320" cy="15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09" descr="ipod 1.jpg"/>
            <p:cNvPicPr/>
            <p:nvPr/>
          </p:nvPicPr>
          <p:blipFill>
            <a:blip r:embed="rId5"/>
            <a:stretch/>
          </p:blipFill>
          <p:spPr>
            <a:xfrm>
              <a:off x="5256000" y="4308840"/>
              <a:ext cx="130464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10"/>
            <p:cNvSpPr/>
            <p:nvPr/>
          </p:nvSpPr>
          <p:spPr>
            <a:xfrm>
              <a:off x="3299400" y="5885640"/>
              <a:ext cx="2558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laisjet Portabël për Luajtjen e Skendarëve Audio e Vide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57338-1797-41D8-A3F1-5030D156B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ajisjet për Lojrat 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ërdorur për të luajtur loj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to përdorin ruajtjen e të dhënave me flash ose me disqe të ngur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anë më shumë sesa thjesht luajtje lojra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" name="Group 11"/>
          <p:cNvGrpSpPr/>
          <p:nvPr/>
        </p:nvGrpSpPr>
        <p:grpSpPr>
          <a:xfrm>
            <a:off x="620640" y="3681360"/>
            <a:ext cx="7256520" cy="2400480"/>
            <a:chOff x="620640" y="3681360"/>
            <a:chExt cx="7256520" cy="2400480"/>
          </a:xfrm>
        </p:grpSpPr>
        <p:grpSp>
          <p:nvGrpSpPr>
            <p:cNvPr id="277" name="Group 136"/>
            <p:cNvGrpSpPr/>
            <p:nvPr/>
          </p:nvGrpSpPr>
          <p:grpSpPr>
            <a:xfrm>
              <a:off x="632880" y="3681360"/>
              <a:ext cx="6913440" cy="2400480"/>
              <a:chOff x="632880" y="3681360"/>
              <a:chExt cx="6913440" cy="2400480"/>
            </a:xfrm>
          </p:grpSpPr>
          <p:pic>
            <p:nvPicPr>
              <p:cNvPr id="278" name="Picture 137" descr="xbox.jpg"/>
              <p:cNvPicPr/>
              <p:nvPr/>
            </p:nvPicPr>
            <p:blipFill>
              <a:blip r:embed="rId1"/>
              <a:stretch/>
            </p:blipFill>
            <p:spPr>
              <a:xfrm>
                <a:off x="632880" y="3681360"/>
                <a:ext cx="207720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138" descr="sega.png"/>
              <p:cNvPicPr/>
              <p:nvPr/>
            </p:nvPicPr>
            <p:blipFill>
              <a:blip r:embed="rId2"/>
              <a:stretch/>
            </p:blipFill>
            <p:spPr>
              <a:xfrm>
                <a:off x="6100200" y="3699720"/>
                <a:ext cx="1446120" cy="10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39" descr="nintendo ds.jpg"/>
              <p:cNvPicPr/>
              <p:nvPr/>
            </p:nvPicPr>
            <p:blipFill>
              <a:blip r:embed="rId3"/>
              <a:stretch/>
            </p:blipFill>
            <p:spPr>
              <a:xfrm>
                <a:off x="2710080" y="3791520"/>
                <a:ext cx="1195920" cy="79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Picture 140" descr="vita.jpg"/>
              <p:cNvPicPr/>
              <p:nvPr/>
            </p:nvPicPr>
            <p:blipFill>
              <a:blip r:embed="rId4"/>
              <a:stretch/>
            </p:blipFill>
            <p:spPr>
              <a:xfrm>
                <a:off x="4041000" y="3806640"/>
                <a:ext cx="190116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Rectangle 141"/>
              <p:cNvSpPr/>
              <p:nvPr/>
            </p:nvSpPr>
            <p:spPr>
              <a:xfrm>
                <a:off x="2981160" y="5846760"/>
                <a:ext cx="2292120" cy="23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jisjet për Lojrat Vide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3" name="Picture 142" descr="ps3.jpg"/>
            <p:cNvPicPr/>
            <p:nvPr/>
          </p:nvPicPr>
          <p:blipFill>
            <a:blip r:embed="rId5"/>
            <a:stretch/>
          </p:blipFill>
          <p:spPr>
            <a:xfrm>
              <a:off x="620640" y="4932000"/>
              <a:ext cx="154260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43" descr="wii-u.jpg"/>
            <p:cNvPicPr/>
            <p:nvPr/>
          </p:nvPicPr>
          <p:blipFill>
            <a:blip r:embed="rId6"/>
            <a:stretch/>
          </p:blipFill>
          <p:spPr>
            <a:xfrm>
              <a:off x="2294280" y="5038920"/>
              <a:ext cx="201600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45" descr="wii.jpg"/>
            <p:cNvPicPr/>
            <p:nvPr/>
          </p:nvPicPr>
          <p:blipFill>
            <a:blip r:embed="rId7"/>
            <a:stretch/>
          </p:blipFill>
          <p:spPr>
            <a:xfrm>
              <a:off x="6033600" y="4830840"/>
              <a:ext cx="1843560" cy="10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44" descr="wii-u2.jpg"/>
            <p:cNvPicPr/>
            <p:nvPr/>
          </p:nvPicPr>
          <p:blipFill>
            <a:blip r:embed="rId8"/>
            <a:srcRect l="-7" t="0" r="4920" b="0"/>
            <a:stretch/>
          </p:blipFill>
          <p:spPr>
            <a:xfrm>
              <a:off x="4139640" y="4830840"/>
              <a:ext cx="1960200" cy="93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62D1D-6D34-4A54-82AA-A7252D059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Marrësit G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istemi Global i Pozicionimit (GPS) është një sistem i navigimit satelitor i vendosur në hapësirë që jep të dhëna për vendndodhjen dhe koh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15" descr="gps2"/>
          <p:cNvPicPr/>
          <p:nvPr/>
        </p:nvPicPr>
        <p:blipFill>
          <a:blip r:embed="rId1"/>
          <a:stretch/>
        </p:blipFill>
        <p:spPr>
          <a:xfrm>
            <a:off x="4881600" y="3733920"/>
            <a:ext cx="2890800" cy="1847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6" descr="gps1"/>
          <p:cNvPicPr/>
          <p:nvPr/>
        </p:nvPicPr>
        <p:blipFill>
          <a:blip r:embed="rId2"/>
          <a:stretch/>
        </p:blipFill>
        <p:spPr>
          <a:xfrm>
            <a:off x="1301760" y="3733920"/>
            <a:ext cx="3149640" cy="18669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7"/>
          <p:cNvSpPr/>
          <p:nvPr/>
        </p:nvSpPr>
        <p:spPr>
          <a:xfrm>
            <a:off x="3247920" y="573876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rësit 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60DA0-348C-4D20-A1B4-F0305D942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rovat e Mundsh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okument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ot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esazhet Elektronike Skedarët Bashkëngjit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Bazat e të Dhën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ë Dhëna Financi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istoria e Navigimit të Interne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Bisedave në C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gjistrimet e Ngjarj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ndndodhjet G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DE3B9-E165-431C-B7A6-6FFA8C9DE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urimet e Prov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mund të lidhen me pothuaj të gjitha llojet e hetim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oji dhe numri i pajisjeve elektronike rriten përdit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at Elektronike duhet të trajtohen me korrektësi që të kenë vle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B2CA1-7D63-4209-BB9F-5011D9522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29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48"/>
          <p:cNvSpPr/>
          <p:nvPr/>
        </p:nvSpPr>
        <p:spPr>
          <a:xfrm>
            <a:off x="3144960" y="30258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122031"/>
                </a:solidFill>
                <a:latin typeface="Calibri"/>
              </a:rPr>
              <a:t>Rrjetet Kompjuter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9D10A-5DB2-423C-A694-91579D7E5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Rrjet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rrjet përbëhet nga lidhjet ndërmjet dy ose më shumë kompjuterave që janë lidhur me kabllo të dhënash ose me lidhjen pa kabëll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jeti i mundëson kompjuterave të ndajnë të dhënat dhe burimet e tjera ndërmjet ty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E8924-07BE-41BF-B041-C901A8209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lojet e Rrjete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Local Area Network (LAN) –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është një rrjet kompjuterik që mbulon një zonë të vogël gjeografike, si shtëpia, zyra, ose grup ndërtesash p.sh. një shkollë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Wide Area Network (WAN) 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– është një rrjet kompjuterik që mbulon një zonë të gjerë (d.m.th, çdo rrjet, lidhjet e komunikimit kalojnë kufijtë metropolitanë, raj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 ose kombët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Shembulli më i madh dhe i mirënjohur i një rrjeti WAN është </a:t>
            </a:r>
            <a:r>
              <a:rPr b="1" lang="sq-AL" sz="3200" spc="-1" strike="noStrike">
                <a:solidFill>
                  <a:srgbClr val="000000"/>
                </a:solidFill>
                <a:latin typeface="Calibri"/>
              </a:rPr>
              <a:t>INTERNETI</a:t>
            </a:r>
            <a:r>
              <a:rPr b="0" lang="sq-A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F1293-0F61-4C62-98E6-24F4813BB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Terminologjia dhe Pajisje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r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janë një pikë fundore ose “kanal" për komunikimet në rrj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ndwid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sasia e informacionit që mund të kalojë nëpërmjet një kablli ose linje pa kabë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resa Media Access Control (MAC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është një identifikues gati-unik i caktuar për shumicën e përshtatësve të rrjetit ose kartave të ndërfaqes së rrjetit (NICs) nga prodhue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CCCAE-E843-44FB-B31D-EE75DC19A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ajisjet e Ruajtjes 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ave q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 bashk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gjiten Rrjetit ose Network Attached Storage (NAS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Content Placeholder 2"/>
          <p:cNvSpPr/>
          <p:nvPr/>
        </p:nvSpPr>
        <p:spPr>
          <a:xfrm>
            <a:off x="457200" y="213372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e ngjashme me disqet e ngurta të jashtme me ndryshimin që ata ofrojnë hapësirë për një rrjet të tërë në vend të një Kompjuteri të vetëm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45"/>
          <p:cNvGrpSpPr/>
          <p:nvPr/>
        </p:nvGrpSpPr>
        <p:grpSpPr>
          <a:xfrm>
            <a:off x="770040" y="3870360"/>
            <a:ext cx="7315200" cy="2314080"/>
            <a:chOff x="770040" y="3870360"/>
            <a:chExt cx="7315200" cy="2314080"/>
          </a:xfrm>
        </p:grpSpPr>
        <p:pic>
          <p:nvPicPr>
            <p:cNvPr id="356" name="Grafik 167" descr=""/>
            <p:cNvPicPr/>
            <p:nvPr/>
          </p:nvPicPr>
          <p:blipFill>
            <a:blip r:embed="rId1"/>
            <a:stretch/>
          </p:blipFill>
          <p:spPr>
            <a:xfrm>
              <a:off x="6107760" y="3870360"/>
              <a:ext cx="1977480" cy="22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Grafik 168" descr=""/>
            <p:cNvPicPr/>
            <p:nvPr/>
          </p:nvPicPr>
          <p:blipFill>
            <a:blip r:embed="rId2"/>
            <a:stretch/>
          </p:blipFill>
          <p:spPr>
            <a:xfrm>
              <a:off x="770040" y="3870360"/>
              <a:ext cx="1854000" cy="206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8" name="Group 244"/>
            <p:cNvGrpSpPr/>
            <p:nvPr/>
          </p:nvGrpSpPr>
          <p:grpSpPr>
            <a:xfrm>
              <a:off x="2884680" y="3870360"/>
              <a:ext cx="2707200" cy="2314080"/>
              <a:chOff x="2884680" y="3870360"/>
              <a:chExt cx="2707200" cy="2314080"/>
            </a:xfrm>
          </p:grpSpPr>
          <p:pic>
            <p:nvPicPr>
              <p:cNvPr id="359" name="Picture 127" descr="RAID.jpg"/>
              <p:cNvPicPr/>
              <p:nvPr/>
            </p:nvPicPr>
            <p:blipFill>
              <a:blip r:embed="rId3"/>
              <a:stretch/>
            </p:blipFill>
            <p:spPr>
              <a:xfrm>
                <a:off x="2884680" y="3870360"/>
                <a:ext cx="2707200" cy="189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128"/>
              <p:cNvSpPr/>
              <p:nvPr/>
            </p:nvSpPr>
            <p:spPr>
              <a:xfrm>
                <a:off x="3227760" y="5793480"/>
                <a:ext cx="19206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NAS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me vendosje </a:t>
                </a:r>
                <a:r>
                  <a:rPr b="0" lang="el-GR" sz="12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RA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DB0DE-CE4E-4F8D-B0ED-F9D59263C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Kontrolluesi i Nd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faqes 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Rrjetit ose Network Interface Controller (NIC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57200" y="186696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qark ose kartë e instaluar në një kompjuter që i lejon atij të lidhet me nj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46"/>
          <p:cNvGrpSpPr/>
          <p:nvPr/>
        </p:nvGrpSpPr>
        <p:grpSpPr>
          <a:xfrm>
            <a:off x="612720" y="3138480"/>
            <a:ext cx="7399080" cy="2935080"/>
            <a:chOff x="612720" y="3138480"/>
            <a:chExt cx="7399080" cy="2935080"/>
          </a:xfrm>
        </p:grpSpPr>
        <p:pic>
          <p:nvPicPr>
            <p:cNvPr id="365" name="Grafik 129" descr=""/>
            <p:cNvPicPr/>
            <p:nvPr/>
          </p:nvPicPr>
          <p:blipFill>
            <a:blip r:embed="rId1"/>
            <a:stretch/>
          </p:blipFill>
          <p:spPr>
            <a:xfrm>
              <a:off x="612720" y="3138480"/>
              <a:ext cx="2196000" cy="246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133" descr="NIC.jpg"/>
            <p:cNvPicPr/>
            <p:nvPr/>
          </p:nvPicPr>
          <p:blipFill>
            <a:blip r:embed="rId2"/>
            <a:stretch/>
          </p:blipFill>
          <p:spPr>
            <a:xfrm>
              <a:off x="2823480" y="3505320"/>
              <a:ext cx="2823840" cy="21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itle 1"/>
            <p:cNvSpPr/>
            <p:nvPr/>
          </p:nvSpPr>
          <p:spPr>
            <a:xfrm>
              <a:off x="3313800" y="5655960"/>
              <a:ext cx="2229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Grafik 116" descr=""/>
            <p:cNvPicPr/>
            <p:nvPr/>
          </p:nvPicPr>
          <p:blipFill>
            <a:blip r:embed="rId3"/>
            <a:stretch/>
          </p:blipFill>
          <p:spPr>
            <a:xfrm>
              <a:off x="5624640" y="3138480"/>
              <a:ext cx="2387160" cy="195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3FDB0-33DD-458F-90C0-29EDDF353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Hub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1417680"/>
            <a:ext cx="822960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Hub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për lidhjen së bashku të pajisjeve të eternetit me fibra optike ose me çifte, duke i kthyer ato në një segment të vetëm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9"/>
          <p:cNvGrpSpPr/>
          <p:nvPr/>
        </p:nvGrpSpPr>
        <p:grpSpPr>
          <a:xfrm>
            <a:off x="4448160" y="3584520"/>
            <a:ext cx="2143080" cy="2238480"/>
            <a:chOff x="4448160" y="3584520"/>
            <a:chExt cx="2143080" cy="2238480"/>
          </a:xfrm>
        </p:grpSpPr>
        <p:pic>
          <p:nvPicPr>
            <p:cNvPr id="373" name="Picture 147" descr="Network Hub.jpg"/>
            <p:cNvPicPr/>
            <p:nvPr/>
          </p:nvPicPr>
          <p:blipFill>
            <a:blip r:embed="rId1"/>
            <a:stretch/>
          </p:blipFill>
          <p:spPr>
            <a:xfrm>
              <a:off x="4448160" y="3584520"/>
              <a:ext cx="21430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itle 1"/>
            <p:cNvSpPr/>
            <p:nvPr/>
          </p:nvSpPr>
          <p:spPr>
            <a:xfrm>
              <a:off x="5019120" y="5548680"/>
              <a:ext cx="109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Hu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62930-9EAE-44D2-911D-4E8E1B1D7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Switc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work Switc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e rrjetit kompjuterik që përdoret kryesisht për lidhjen e grupeve të pajisjeve të rrjetit me njëra tjetrën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ngjashme me pajisjen H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38"/>
          <p:cNvGrpSpPr/>
          <p:nvPr/>
        </p:nvGrpSpPr>
        <p:grpSpPr>
          <a:xfrm>
            <a:off x="5869080" y="3830760"/>
            <a:ext cx="1973160" cy="2090520"/>
            <a:chOff x="5869080" y="3830760"/>
            <a:chExt cx="1973160" cy="2090520"/>
          </a:xfrm>
        </p:grpSpPr>
        <p:pic>
          <p:nvPicPr>
            <p:cNvPr id="379" name="Picture 150" descr="network switch.jpg"/>
            <p:cNvPicPr/>
            <p:nvPr/>
          </p:nvPicPr>
          <p:blipFill>
            <a:blip r:embed="rId1"/>
            <a:stretch/>
          </p:blipFill>
          <p:spPr>
            <a:xfrm>
              <a:off x="5869080" y="3830760"/>
              <a:ext cx="19731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itle 1"/>
            <p:cNvSpPr/>
            <p:nvPr/>
          </p:nvSpPr>
          <p:spPr>
            <a:xfrm>
              <a:off x="6083280" y="5433120"/>
              <a:ext cx="1618920" cy="3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Ne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ork 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89A1F-555E-472E-B2F0-50AE26BFB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etwork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457200" y="1417680"/>
            <a:ext cx="8229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outer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htë një pajisje që përcakton pikën tjetër të rrjetit ku duhet të përcillet një paketë për në destinacionin e s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jetë e lidhur me të paktën 2 rrjete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7"/>
          <p:cNvGrpSpPr/>
          <p:nvPr/>
        </p:nvGrpSpPr>
        <p:grpSpPr>
          <a:xfrm>
            <a:off x="3213000" y="4033800"/>
            <a:ext cx="4079880" cy="1957320"/>
            <a:chOff x="3213000" y="4033800"/>
            <a:chExt cx="4079880" cy="1957320"/>
          </a:xfrm>
        </p:grpSpPr>
        <p:pic>
          <p:nvPicPr>
            <p:cNvPr id="385" name="Picture 153" descr="network router.jpg"/>
            <p:cNvPicPr/>
            <p:nvPr/>
          </p:nvPicPr>
          <p:blipFill>
            <a:blip r:embed="rId1"/>
            <a:stretch/>
          </p:blipFill>
          <p:spPr>
            <a:xfrm>
              <a:off x="3213000" y="4033800"/>
              <a:ext cx="407988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itle 1"/>
            <p:cNvSpPr/>
            <p:nvPr/>
          </p:nvSpPr>
          <p:spPr>
            <a:xfrm flipV="1" rot="10800000">
              <a:off x="4053600" y="5535360"/>
              <a:ext cx="253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Rou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698FD-C6F1-47E7-BFA0-3CC258799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rve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është një kompjuter ose një pajisje që ofron informacion ose shërbime për kompjuterat e tjerë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Server mund të kryejë disa shërbime – p.sh. Server Uebi, Server per postën elektronike, server për skedarët, server për printerat etj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Grafik 131" descr=""/>
          <p:cNvPicPr/>
          <p:nvPr/>
        </p:nvPicPr>
        <p:blipFill>
          <a:blip r:embed="rId1"/>
          <a:stretch/>
        </p:blipFill>
        <p:spPr>
          <a:xfrm>
            <a:off x="4037040" y="4664160"/>
            <a:ext cx="29653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E07D4-B848-4FB5-B57C-88102608C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sti i Njohuriv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User\Desktop\test.jpg"/>
          <p:cNvPicPr/>
          <p:nvPr/>
        </p:nvPicPr>
        <p:blipFill>
          <a:blip r:embed="rId1"/>
          <a:stretch/>
        </p:blipFill>
        <p:spPr>
          <a:xfrm>
            <a:off x="2655720" y="1646280"/>
            <a:ext cx="27036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E7350-4766-497D-8CE8-B4E560DC5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Content Placeholder 2"/>
          <p:cNvSpPr/>
          <p:nvPr/>
        </p:nvSpPr>
        <p:spPr>
          <a:xfrm>
            <a:off x="457200" y="1238400"/>
            <a:ext cx="822960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rewal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një pajisje fizike ose shërbim i një programi kompjuterik i përdorur për rritjen e sigurisë së rrjet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yra e një firewall-i është ose të bllokojë ose të lejojë trafikun nga rrjeti ose për në rrj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50"/>
          <p:cNvGrpSpPr/>
          <p:nvPr/>
        </p:nvGrpSpPr>
        <p:grpSpPr>
          <a:xfrm>
            <a:off x="614520" y="4289400"/>
            <a:ext cx="8072280" cy="1530000"/>
            <a:chOff x="614520" y="4289400"/>
            <a:chExt cx="8072280" cy="1530000"/>
          </a:xfrm>
        </p:grpSpPr>
        <p:pic>
          <p:nvPicPr>
            <p:cNvPr id="395" name="Grafik 161" descr=""/>
            <p:cNvPicPr/>
            <p:nvPr/>
          </p:nvPicPr>
          <p:blipFill>
            <a:blip r:embed="rId1"/>
            <a:stretch/>
          </p:blipFill>
          <p:spPr>
            <a:xfrm>
              <a:off x="3441960" y="4595400"/>
              <a:ext cx="3125520" cy="61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Grafik 163" descr=""/>
            <p:cNvPicPr/>
            <p:nvPr/>
          </p:nvPicPr>
          <p:blipFill>
            <a:blip r:embed="rId2"/>
            <a:stretch/>
          </p:blipFill>
          <p:spPr>
            <a:xfrm>
              <a:off x="6846480" y="4289400"/>
              <a:ext cx="1840320" cy="152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47"/>
            <p:cNvSpPr/>
            <p:nvPr/>
          </p:nvSpPr>
          <p:spPr>
            <a:xfrm>
              <a:off x="3988080" y="5207400"/>
              <a:ext cx="2261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Pajisjet 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Fir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w</a:t>
              </a: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Grafik 162" descr=""/>
            <p:cNvPicPr/>
            <p:nvPr/>
          </p:nvPicPr>
          <p:blipFill>
            <a:blip r:embed="rId3"/>
            <a:stretch/>
          </p:blipFill>
          <p:spPr>
            <a:xfrm>
              <a:off x="614520" y="4289400"/>
              <a:ext cx="2200320" cy="120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3E665-3D00-42ED-BFC0-BE6C77507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ika e Aksesi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Content Placeholder 2"/>
          <p:cNvSpPr/>
          <p:nvPr/>
        </p:nvSpPr>
        <p:spPr>
          <a:xfrm>
            <a:off x="457200" y="1417680"/>
            <a:ext cx="82296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at e Aksesit krijojnë një rrjet për shërbimet e WLAN-it dhe i lidhin ato me pjesën tjetër të rrjetit.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Grafik 164" descr=""/>
          <p:cNvPicPr/>
          <p:nvPr/>
        </p:nvPicPr>
        <p:blipFill>
          <a:blip r:embed="rId1"/>
          <a:stretch/>
        </p:blipFill>
        <p:spPr>
          <a:xfrm>
            <a:off x="457200" y="381168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65" descr=""/>
          <p:cNvPicPr/>
          <p:nvPr/>
        </p:nvPicPr>
        <p:blipFill>
          <a:blip r:embed="rId2"/>
          <a:stretch/>
        </p:blipFill>
        <p:spPr>
          <a:xfrm>
            <a:off x="3165480" y="3743280"/>
            <a:ext cx="1900080" cy="1889280"/>
          </a:xfrm>
          <a:prstGeom prst="rect">
            <a:avLst/>
          </a:prstGeom>
          <a:ln w="0">
            <a:noFill/>
          </a:ln>
        </p:spPr>
      </p:pic>
      <p:pic>
        <p:nvPicPr>
          <p:cNvPr id="404" name="Grafik 166" descr=""/>
          <p:cNvPicPr/>
          <p:nvPr/>
        </p:nvPicPr>
        <p:blipFill>
          <a:blip r:embed="rId3"/>
          <a:stretch/>
        </p:blipFill>
        <p:spPr>
          <a:xfrm>
            <a:off x="5641920" y="3684600"/>
            <a:ext cx="26589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B3960-0A26-4E28-9E5F-A1979EC0F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45720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2800" spc="-1" strike="noStrike">
                <a:solidFill>
                  <a:srgbClr val="000000"/>
                </a:solidFill>
                <a:latin typeface="Arial"/>
              </a:rPr>
              <a:t>Në përfundim të mësimit pjesëmarrësit do të jenë në gjendje t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Njohin se cilat Burime të Provave janë me vler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provu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Bëjnë dallim ndërmjet Rrjeteve Kompjuter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Identifikojnë pajisjet e rrjet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E0A6D-E4BF-4A62-997E-04851E5B9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3085920" y="450072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 y e t j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A6DEB-6203-4CC9-A86E-7064F2727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temet kompjuterike zakonisht përbëhen nga pjesët fizike të kompjuterit dhe programet kompjuterik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 Pjesët e Kompjuterit mund të kategorizohen përgjithësisht në Njësinë Qendrore dhe Pjesët Perif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C7D86-D837-4911-87CD-9BF914DB1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istemet Kompjuter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"/>
          <p:cNvGrpSpPr/>
          <p:nvPr/>
        </p:nvGrpSpPr>
        <p:grpSpPr>
          <a:xfrm>
            <a:off x="1079640" y="1308240"/>
            <a:ext cx="3490920" cy="2423880"/>
            <a:chOff x="1079640" y="1308240"/>
            <a:chExt cx="3490920" cy="242388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1079640" y="1308240"/>
              <a:ext cx="3490920" cy="22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8"/>
            <p:cNvSpPr/>
            <p:nvPr/>
          </p:nvSpPr>
          <p:spPr>
            <a:xfrm>
              <a:off x="1530360" y="3372480"/>
              <a:ext cx="29073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Desktop/Toëer Syste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5"/>
          <p:cNvGrpSpPr/>
          <p:nvPr/>
        </p:nvGrpSpPr>
        <p:grpSpPr>
          <a:xfrm>
            <a:off x="946080" y="3732120"/>
            <a:ext cx="3490920" cy="2386080"/>
            <a:chOff x="946080" y="3732120"/>
            <a:chExt cx="3490920" cy="2386080"/>
          </a:xfrm>
        </p:grpSpPr>
        <p:pic>
          <p:nvPicPr>
            <p:cNvPr id="70" name="Picture 3" descr="laptop.jpg"/>
            <p:cNvPicPr/>
            <p:nvPr/>
          </p:nvPicPr>
          <p:blipFill>
            <a:blip r:embed="rId2"/>
            <a:stretch/>
          </p:blipFill>
          <p:spPr>
            <a:xfrm>
              <a:off x="946080" y="3732120"/>
              <a:ext cx="3490920" cy="20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4"/>
            <p:cNvSpPr/>
            <p:nvPr/>
          </p:nvSpPr>
          <p:spPr>
            <a:xfrm>
              <a:off x="1634400" y="5779080"/>
              <a:ext cx="23252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Laptop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4859280" y="1308240"/>
            <a:ext cx="3282840" cy="4432320"/>
            <a:chOff x="4859280" y="1308240"/>
            <a:chExt cx="3282840" cy="4432320"/>
          </a:xfrm>
        </p:grpSpPr>
        <p:pic>
          <p:nvPicPr>
            <p:cNvPr id="73" name="Picture 10" descr="mainframe computer.jpg"/>
            <p:cNvPicPr/>
            <p:nvPr/>
          </p:nvPicPr>
          <p:blipFill>
            <a:blip r:embed="rId3"/>
            <a:stretch/>
          </p:blipFill>
          <p:spPr>
            <a:xfrm>
              <a:off x="4859280" y="1308240"/>
              <a:ext cx="3013560" cy="37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1"/>
            <p:cNvSpPr/>
            <p:nvPr/>
          </p:nvSpPr>
          <p:spPr>
            <a:xfrm>
              <a:off x="4863240" y="5047920"/>
              <a:ext cx="3278880" cy="6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Mainframe Comput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A4685-A5EF-4A34-B929-12AEA0C71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ajisjet Tabl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kompjuter tablet është një pajisje që vihet në funksionim duke prekur ekranin dhe jo duke përdorur një tastierë dhe një maus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457200" y="3483000"/>
            <a:ext cx="8229600" cy="2950560"/>
            <a:chOff x="457200" y="3483000"/>
            <a:chExt cx="8229600" cy="2950560"/>
          </a:xfrm>
        </p:grpSpPr>
        <p:pic>
          <p:nvPicPr>
            <p:cNvPr id="79" name="Picture 118" descr=""/>
            <p:cNvPicPr/>
            <p:nvPr/>
          </p:nvPicPr>
          <p:blipFill>
            <a:blip r:embed="rId1"/>
            <a:stretch/>
          </p:blipFill>
          <p:spPr>
            <a:xfrm>
              <a:off x="457200" y="3578760"/>
              <a:ext cx="1799280" cy="244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19" descr=""/>
            <p:cNvPicPr/>
            <p:nvPr/>
          </p:nvPicPr>
          <p:blipFill>
            <a:blip r:embed="rId2"/>
            <a:stretch/>
          </p:blipFill>
          <p:spPr>
            <a:xfrm>
              <a:off x="2256480" y="3578760"/>
              <a:ext cx="1805040" cy="267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123" descr="galaxy tablet.jpg"/>
            <p:cNvPicPr/>
            <p:nvPr/>
          </p:nvPicPr>
          <p:blipFill>
            <a:blip r:embed="rId3"/>
            <a:stretch/>
          </p:blipFill>
          <p:spPr>
            <a:xfrm>
              <a:off x="4002480" y="3578760"/>
              <a:ext cx="2355840" cy="26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124" descr="tablet.jpg"/>
            <p:cNvPicPr/>
            <p:nvPr/>
          </p:nvPicPr>
          <p:blipFill>
            <a:blip r:embed="rId4"/>
            <a:stretch/>
          </p:blipFill>
          <p:spPr>
            <a:xfrm>
              <a:off x="6358320" y="3483000"/>
              <a:ext cx="232848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25"/>
            <p:cNvSpPr/>
            <p:nvPr/>
          </p:nvSpPr>
          <p:spPr>
            <a:xfrm>
              <a:off x="3074400" y="6202440"/>
              <a:ext cx="2740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Tablet PC’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DF7DB-7BFF-4627-81D7-91C61AD8A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86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"/>
            <p:cNvSpPr/>
            <p:nvPr/>
          </p:nvSpPr>
          <p:spPr>
            <a:xfrm>
              <a:off x="2921760" y="872640"/>
              <a:ext cx="3506760" cy="181800"/>
            </a:xfrm>
            <a:prstGeom prst="pie">
              <a:avLst/>
            </a:pr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8"/>
            <p:cNvSpPr/>
            <p:nvPr/>
          </p:nvSpPr>
          <p:spPr>
            <a:xfrm>
              <a:off x="4053240" y="648720"/>
              <a:ext cx="1234800" cy="6447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"/>
            <p:cNvSpPr/>
            <p:nvPr/>
          </p:nvSpPr>
          <p:spPr>
            <a:xfrm>
              <a:off x="4063680" y="648720"/>
              <a:ext cx="1209240" cy="644760"/>
            </a:xfrm>
            <a:prstGeom prst="pi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0"/>
            <p:cNvSpPr/>
            <p:nvPr/>
          </p:nvSpPr>
          <p:spPr>
            <a:xfrm>
              <a:off x="4074120" y="648720"/>
              <a:ext cx="1188720" cy="644760"/>
            </a:xfrm>
            <a:prstGeom prst="pie">
              <a:avLst/>
            </a:pr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1"/>
            <p:cNvSpPr/>
            <p:nvPr/>
          </p:nvSpPr>
          <p:spPr>
            <a:xfrm>
              <a:off x="4078440" y="648720"/>
              <a:ext cx="1173600" cy="644760"/>
            </a:xfrm>
            <a:prstGeom prst="pie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4088880" y="648720"/>
              <a:ext cx="1146960" cy="644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4099320" y="648720"/>
              <a:ext cx="1126440" cy="644760"/>
            </a:xfrm>
            <a:prstGeom prst="pie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>
              <a:off x="4109760" y="648720"/>
              <a:ext cx="1105920" cy="644760"/>
            </a:xfrm>
            <a:prstGeom prst="pie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>
              <a:off x="4120200" y="648720"/>
              <a:ext cx="1080360" cy="6447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>
              <a:off x="3764160" y="457200"/>
              <a:ext cx="1797480" cy="1020600"/>
            </a:xfrm>
            <a:prstGeom prst="pie">
              <a:avLst/>
            </a:pr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4383720" y="490680"/>
              <a:ext cx="594720" cy="43848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48"/>
          <p:cNvSpPr/>
          <p:nvPr/>
        </p:nvSpPr>
        <p:spPr>
          <a:xfrm>
            <a:off x="3144960" y="3025800"/>
            <a:ext cx="306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Pajisj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q-AL" sz="3200" spc="-1" strike="noStrike">
                <a:solidFill>
                  <a:srgbClr val="000000"/>
                </a:solidFill>
                <a:latin typeface="Arial"/>
              </a:rPr>
              <a:t> për Ruajtjen e të Dhë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89E9F-333B-48DA-B06B-E26BC3AD4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Hard Disks dhe Solid State D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ëto janë pajisjet kryesore për ruajtjen e të dhënave brenda sistemeve kompjute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698400" y="3176640"/>
            <a:ext cx="244656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7"/>
          <p:cNvGrpSpPr/>
          <p:nvPr/>
        </p:nvGrpSpPr>
        <p:grpSpPr>
          <a:xfrm>
            <a:off x="3911760" y="2876400"/>
            <a:ext cx="1803240" cy="2778120"/>
            <a:chOff x="3911760" y="2876400"/>
            <a:chExt cx="1803240" cy="2778120"/>
          </a:xfrm>
        </p:grpSpPr>
        <p:pic>
          <p:nvPicPr>
            <p:cNvPr id="136" name="Picture 18" descr="hard disk1.jpg"/>
            <p:cNvPicPr/>
            <p:nvPr/>
          </p:nvPicPr>
          <p:blipFill>
            <a:blip r:embed="rId2"/>
            <a:stretch/>
          </p:blipFill>
          <p:spPr>
            <a:xfrm>
              <a:off x="3911760" y="2876400"/>
              <a:ext cx="180324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9"/>
            <p:cNvSpPr/>
            <p:nvPr/>
          </p:nvSpPr>
          <p:spPr>
            <a:xfrm>
              <a:off x="3911760" y="5114160"/>
              <a:ext cx="1594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Hard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Pamja nga jashtë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6421320" y="3241800"/>
            <a:ext cx="1587600" cy="1930320"/>
            <a:chOff x="6421320" y="3241800"/>
            <a:chExt cx="1587600" cy="1930320"/>
          </a:xfrm>
        </p:grpSpPr>
        <p:pic>
          <p:nvPicPr>
            <p:cNvPr id="139" name="Picture 121" descr="ssd.jpg"/>
            <p:cNvPicPr/>
            <p:nvPr/>
          </p:nvPicPr>
          <p:blipFill>
            <a:blip r:embed="rId3"/>
            <a:stretch/>
          </p:blipFill>
          <p:spPr>
            <a:xfrm>
              <a:off x="6421320" y="3241800"/>
              <a:ext cx="158760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22"/>
            <p:cNvSpPr/>
            <p:nvPr/>
          </p:nvSpPr>
          <p:spPr>
            <a:xfrm>
              <a:off x="6489000" y="4865760"/>
              <a:ext cx="13712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MS Mincho"/>
                </a:rPr>
                <a:t>Solid State Dis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Nigel Jones</dc:creator>
  <dc:description/>
  <dc:language>en-US</dc:language>
  <cp:lastModifiedBy>perdorues</cp:lastModifiedBy>
  <dcterms:modified xsi:type="dcterms:W3CDTF">2013-07-29T15:00:56Z</dcterms:modified>
  <cp:revision>190</cp:revision>
  <dc:subject/>
  <dc:title>Introductory Cybercrime Training for Judges and Prosecutors</dc:title>
</cp:coreProperties>
</file>